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76E6-F88E-4E74-8BD0-195D3855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7B8B-5AD6-4365-84AC-C864D541B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0098-2C40-4943-958C-4DC73788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D9AF-1733-4F92-B21A-B86E4780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31BB-EF98-4B75-B119-53ABE395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459A-4E92-4349-960F-4ACF58959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3A7A-519B-4393-8B59-F2F93527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018C-81DE-4EF5-8584-6DA901FA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3283-C2BE-48EA-9E57-9BDB184AA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1E9B-5D80-4D6D-B1B8-D236E4ADD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37DA-C76A-4665-95ED-A2F7A229E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5F5A-22BA-42C4-9AD5-E65FDEA0A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FDDB-BB92-4C7D-A0A7-C56BC06D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623-2132-48EF-A6AF-2EEB72AC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047-34DA-450D-AE46-7C57EA5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AAE-D566-4C31-854C-28A4EB54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144-C673-49C9-9522-EF322E93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70A-A039-47B7-9743-5B5478F5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89B-CEFD-4587-9C79-535F8D6F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057-1FBA-42DF-A177-F96C92FF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AB9-F7D7-41EC-908A-0198021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B37-5812-4649-8A97-1ED40586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AB0-C141-4253-B30B-288FB126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679-AB13-4040-B5CD-A41D5F0C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6B5-4E50-4BB7-8BD8-F5B120F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597E-D861-4263-84BF-9F849D3034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4(Rough Outlin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eedback questions lik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this a proportional reasoning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like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change now, if any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2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creen shot 2011-06-29 at 1.47.57 PM.png"/>
          <p:cNvPicPr/>
          <p:nvPr/>
        </p:nvPicPr>
        <p:blipFill>
          <a:blip r:embed="rId1"/>
          <a:stretch/>
        </p:blipFill>
        <p:spPr>
          <a:xfrm>
            <a:off x="781200" y="0"/>
            <a:ext cx="75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eedback questions lik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use 50% and 10%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write both fractions and perc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add $2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you prove your answer makes sense using a different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r strategy have changed if the additional amount had been 70% inst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plan a generic feedback checklist, but we will focus, as you’ve seen, on using feedback  very specific to the specific task the student u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ch of the focus will be on how knowing the goal of the lesson will influence the feedback gi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ossible checklist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ould you convince someone the answer makes se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id you choose the strategy you di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you have used the same strategy if the numbers had been slightly diffe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neric checklist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you mean when…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part of the problem did you have a sense of right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ere the parts you had to think more about?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neric checklist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strike, we still have not been able to go through all of our s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focus on looking at student work and talk about responding in the mo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use a student piece and talk about how to respond to it by asking for participant ideas, but adding 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make a distinction between feedback when you have time and the “in the moment” feedback discussed earli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provide another sample piece to which participants will respond in pa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will then talk it over with another p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Second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Here is a potential example that I have borrowed– will be looking for something like one of these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The context is that kids were asked to create a proportional reasoning problem.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Screen shot 2011-06-29 at 1.47.32 PM.png"/>
          <p:cNvPicPr/>
          <p:nvPr/>
        </p:nvPicPr>
        <p:blipFill>
          <a:blip r:embed="rId1"/>
          <a:stretch/>
        </p:blipFill>
        <p:spPr>
          <a:xfrm>
            <a:off x="1179360" y="0"/>
            <a:ext cx="678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eedback questions lik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48 a good number to choose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pick ¼ and 1/8 to ask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it make sense that 8¢ was not halfway between 6¢ and 12¢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tice that you mentioned that 1 jawbreaker costs 1¢. Did you figure this out before or after you got your answers for ¼ and 1/8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eedback questions lik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the calculations at the bottom show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multiply by 6/6, 8/8 and 12/12? How were your answers related to the fractions you started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use the strategy you d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strategies could you hav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6:21:22Z</dcterms:created>
  <dc:creator>PSteele</dc:creator>
  <dc:description/>
  <dc:language>en-US</dc:language>
  <cp:lastModifiedBy>Marian Small</cp:lastModifiedBy>
  <dcterms:modified xsi:type="dcterms:W3CDTF">2011-06-29T18:14:26Z</dcterms:modified>
  <cp:revision>281</cp:revision>
  <dc:subject/>
  <dc:title>Slide 1</dc:title>
</cp:coreProperties>
</file>